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2E10-9C34-4E45-9581-12333F81F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Y, in reality X=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X, but the qualities being described are not identic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so with PATO because the majority of its terms are not technical and are in common everyda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nce less fixed and more open to interpe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: check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911-7874-4802-83A6-AF2BDB89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9E4-24D3-4662-964A-3198122D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D2B-11D2-4440-BF65-AF8E86AD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D9B-855D-49F8-8514-A51B46F2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170-1508-44AC-B0DE-7C35BA7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945-088D-496C-9A8A-5FD29097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C39-BD1D-40BA-99FD-ACC4BE6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AB0-438B-4627-BA2C-7E6DC57B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8EF-3F58-46DB-B413-B904F9BA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A06-7B3A-4A72-8CB0-4B67DA94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EB8-C62D-43AC-B3CF-F4D1C8E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B33-6328-4F27-AA91-40FE893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4666-B124-474F-BCF4-5FEB62259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B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Hinxt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rom the top dow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rst, the fake term ‘pato’ must be remov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 do we define ‘attribut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I prefer the term ‘quality’ or ‘property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ribute implies attrib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length_in_centimetre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 an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can of course continue to say ‘attribute’ but I use ‘quality’ in these sli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st of new new pato defs are phrased as ‘a property of…’ which I like, but inconsistent with calling the root ‘attribut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ll then, what is a quality/proper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a quality is NO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are not measure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stances of qualities exist independently of their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ies can have zero or more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se are not the names of qualiti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ercent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norm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examples of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particular redness of the left eye of a single individual f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instance of 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color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the eye does not instantiate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represents </a:t>
            </a: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quality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 definitions can be used to classify quality instances by the types the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nstantia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4191120"/>
            <a:ext cx="3298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rticular cas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ness (of a parti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 ey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838080"/>
            <a:ext cx="19958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r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12952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1360" y="242244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21480" y="4267080"/>
            <a:ext cx="30780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stance of an 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 a particular f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5160" y="762120"/>
            <a:ext cx="204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ey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720" y="131112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0" y="243828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4800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0880" y="440388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(i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_bear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lities are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ependent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ent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requi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ear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earers can be physical objects or proces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shape requires a physical object to bear 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f the physical object ceases to exist (e.g. it decomposes), then the shape ceases to ex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la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relate a bearer with other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ensitivit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to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e with: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PATO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a new top level divi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granular divi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1: top level divi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hysical object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color, shape, temperature, velocity, ploidy, furriness, composition, tex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otempor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rocess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rate, periodicity, regularity, du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2: subsequent divi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granularity (i.e. size scal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good account of granularity is vital for inferences from molecular (gene) level to organismal (disease)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partition the level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alised at certain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 can be realised across leve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poros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m-of-parts vs emerg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609480"/>
          <a:ext cx="8686800" cy="66992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quivalent to the sum of the mass of the parts of the bearer (mass at the particle level is primitive/outwith PAT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pa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n optical quality manifest by the capacity of the bearer to block 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/Ch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iqu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ompositional relational quality manifest by the relative quantity of some chemical type contained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le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G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plicing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nifest by the splicing processes undergone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l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number of genomes that are part of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ransformative potency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capacity of the bearer cell to differentiate to different cell typ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iss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reproductive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52280" y="762120"/>
          <a:ext cx="8686800" cy="49514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rp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morphological quality which is manifest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2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3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tivation revisi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Ontology: PAT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&amp; using PATO for a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ranula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physical and physico-chem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mass, concent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biolog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molec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cell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organism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quality, multiple sca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rphology/for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tic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color, opacity, fluoresc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dividing by granular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rategic ques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ould we focus on biological qualities and work with others on morphology, physics-based qualities etc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od for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sy to constrain at high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organismal qualities cannot be borne by molecu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irrors GO and OBO Foundry divis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ier to fin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be proved, but I believe s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sider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ssible objec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upper level of an ontology is what the user sees fir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rms such as “cross-granular quality” may be perceived as undesirable and/or abstruse by some us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unter-argu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lvable using ontology 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ka subsets, sli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e and absolut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PATO terms often come in 3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ass, relative mass, absolute ma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y do we need these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One or two hierarchies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two hierarch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posi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re should be one hierarchy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compromis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t should be possible to transform PATO automatically into a single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ng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for a single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limination of redunda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clear line for deciding what should be A and what should be 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bumpy vs bumpin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 of thing is a ‘valu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562720"/>
            <a:ext cx="80010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93880" y="56340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derich 1997: [quote her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agains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hierarchies reflect cognitive and linguistic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the color of the rose changed from red to brow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3 cognitive artifact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want to present data in a way that is natural to us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t this can be solved with a single collapsed hierarch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are useful for cross-produc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e later - distinguish modifiers from val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 is common database patter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…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romise: transform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Two Hierarchies approach is workable if they can b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automatic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collap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requisite: univoc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‘value’ must be defined to mean exactly one thing on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.e. Each ‘value’ must be the ‘range’ of a single attribu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ving a value ‘fast’ that could be applied to both the spatial quality ‘velocity’ and the process quality ‘duration’ would be forbidde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should use PATO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ly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based evolutionary systemat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euroscience; BIR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u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MI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nical reco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define terms i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diploi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ell;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vasiv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tumor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engineer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gene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condens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hromoso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lapse on ‘ranges’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many types of shape are there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ched, T-shaped, Y-shaped, branched, unbranched, antrose, retrose, curled, curved, wiggly, squiggly, round, flat, square, oblong, elliptical, ovoid, cuboid, spherical, egg-shaped, rod-shaped, heart-shaped, 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defin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compar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it worth the effort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types need precise definitions to be usefu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al shapes are not mathematical ent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mathematical definitions can hel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xes of classific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imension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2-4D (process “shapes”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cave vs convex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gular vs non-angula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umber o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d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rn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imitive and composed sha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morphometrics communi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post-coordinate some shape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g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ad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2-segment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ngers of circ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ly for genuine likeness (e.g. homeotic transformatio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“heart-shaped leaf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annotation section of this 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ep PATO HSV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is black a color hu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should allow overlapping partitions of color spa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fferent domains have ‘sub-terminologies’ of colo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color relational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umans vs tetrachromatic UV-seeing animal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os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ing has_par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sic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cal quality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physical quality which exists in virtue of the bearer interacting with visible electromagnetic radi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romatic qual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emitting, transmitting or reflect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h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satu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vari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ac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aborb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aq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luc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par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t 2: Annotation using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notation scheme desider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Dataf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ed annotation sche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nnotation scheme desider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ig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 is a subset of the scheme which is simp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entire scheme is expres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It should have an </a:t>
            </a:r>
            <a:r>
              <a:rPr b="1" lang="en-US" sz="4000" spc="-1" strike="noStrike">
                <a:solidFill>
                  <a:srgbClr val="e3ebf1"/>
                </a:solidFill>
                <a:latin typeface="Gill Sans"/>
              </a:rPr>
              <a:t>unambiguous </a:t>
            </a: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mapping to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Gill Sans"/>
              </a:rPr>
              <a:t>real world entitie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if PATO is completely unambiguous, an ill-defined annotation scheme may leave room for ambigu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=eye, Q=r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hat does this mea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t least one eye is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 typical eye is red in this many-eyed spid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some point in ti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all tim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ll eyes are red in all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ome eyes are red in some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nifying goal: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tegrating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in and across these doma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different perspectiv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igorous formal definitions i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ntologies and annotation schem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re should be a certain usable subset that is </a:t>
            </a:r>
            <a:r>
              <a:rPr b="0" lang="en-US" sz="4000" spc="-1" strike="noStrike">
                <a:solidFill>
                  <a:srgbClr val="ffff00"/>
                </a:solidFill>
                <a:latin typeface="Gill Sans"/>
              </a:rPr>
              <a:t>simpl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ationale - MODs have limited resources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entry tools for simple subset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databases and query/search engine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urating with a less expressive formalism is easier, faster and requires less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primary use case is search, for which expressivity is les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s should have an (optional) simple faca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mple annotations should be expressible in a simple syntax that is understood by users with relatively little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re should be an exchange format and/or database schemas that use traditional technology as might be used in a MO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g XML, relational tabl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 scheme must be highly expressiv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tiona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by other NCBCs (BI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for cbio 200 gene 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required in fu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pressive superset will be option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can ‘pick and choose’ their subs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ive exchange and storage format will be logic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ails outwith scope of this present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flow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will various kinds of phenotypic data get into OB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s of data suppliers will use different formalism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3 scenarios… (more possibl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I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MOD curators annotates phenotypes using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s stored directly in MOD’s central 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 periodically submit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using Phenote to create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converts pheno-xml to native logic-based formal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MOD directly, 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allow more expressive queries and have more data integ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2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n-MOD generates complex annotations and stores them loc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BIRN group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s OWL or Obo-format instanc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converts to native logic-based formal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OBD using more complex quer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3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Bio MOD curates 200 genes using Pheno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s may be stored outside normal MOD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chema may not be expressive enough for complicated pheno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BD - up to 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e can be used to submit pheno-xml, OWL or OB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"/>
              </a:rPr>
              <a:t>MOD doesn’t have to worry about format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BD converts to native formalis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sers can query OBD using relatively complex quer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s this (should it be) different from #1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9880" y="4952880"/>
            <a:ext cx="1524240" cy="152424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762120"/>
            <a:ext cx="152424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762120"/>
            <a:ext cx="152388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838080"/>
            <a:ext cx="152388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838080"/>
            <a:ext cx="152424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n-M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2743200"/>
            <a:ext cx="1523880" cy="1143000"/>
          </a:xfrm>
          <a:prstGeom prst="flowChartDocumen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-deta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XML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will be described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nform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using a simple syntax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 use ‘E’ for entity and ‘Q’ for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tend it is EAV if you lik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ith implicit superfluous ‘A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has (will have) a formal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im: database exchange and removal of ambigu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using logical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use an internal logic-based represen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 of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’ or ‘EQ’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e for (very) simple sub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s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ion of entity 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unt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tandard case: monadic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kidney, Q=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kidney which is 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ssume that there is more contextual data (not show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genotype, environment, number of organisms in study that showed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retation (with the rest of the database record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 fish in this experiment with a particular genotype had a hypertrophied kidney at some point in time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the ontology itself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define PATO term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exactly is it we’re defining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top-level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finer grained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ntific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ng thick thoracic brist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2 stat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lo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thic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typical thoracic bristle is long and thic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al entity qua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Quant={some,all,most,&lt;percentage&gt;,&lt;count&gt;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thoracic bristle, Q=long, EQuant=80%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80% of the thoracic bristles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 this one individual fl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ternal represent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i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rain,Q=small,during=st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E which has quality that instantiates Q during 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 has the quality Q for some extent of time, and that exten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verla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other temporal relations will come from the OBO Relations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onal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.g. sensitiv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eye, Q=sensitive, E2=red 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ost-coordinating entity 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lood in head Q=pool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E may not be pre-defined (pre-coordinated, pre-composed) in the anatomy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ost-compos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 type representation (aka make a cross-product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(bloo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_location(head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ability to post-coordinate may not be available in the ‘simple-subset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easily in pheno-xml, obo, owl, phenote(so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handle all required reason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e-coordinating ph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mmalian phenotype ontology has pre-coordinated phenotype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ink fu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able to transl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ed queries to annotations on pre-defined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n pre-defined terms to post-coordinated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utable logical definitions are added to M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permatocytes devoid of ast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bsence can never be instantiate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wing, Q=ab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utodef “an instance of wing which is absent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: restate a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mesothoracic segment, Q=missing part, E2=w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has other 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spermatocyte devoid of asters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quality of ‘being many’ does not inhere in a fing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finger, Q=supernumera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“a finger which is supernumerar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hich has more fingers as parts than is typic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extens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, Count=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uld also say +1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ith 6 fingers, which is more than norm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PATO sub-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1905120"/>
            <a:ext cx="236232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27672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8800" y="3279600"/>
            <a:ext cx="20934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9360" y="3279600"/>
            <a:ext cx="184032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ex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286000" y="2514240"/>
            <a:ext cx="220968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480060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4800600"/>
            <a:ext cx="1066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948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09120" y="396252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t’s all about the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verything is doomed to failure without rigorous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more so with PATO tha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Foundry Princi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 should describe things in reality, not how terms are u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f should not use the word ‘describing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ould we come up with a policy for definitions in PA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rrently: 19 defs (2.5 are circular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posed breakout session: examine all the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ss 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ri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ros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arers possess these qualities by virtue of the number and qualities of their granular par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airiness by virtue of: number, width, length, spacing, orientation of hair-par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is the essence of hairy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hai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what if we do not have ‘hairy’ pre-coordinated in PATO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ternate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excess fine-grained parts,E2=hai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Q: is this equivalent to, subsumed by, or related to representation 1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other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ir, Q=lo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s is something diffe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creased brown fat cel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 brown fat cells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brown fat cell, Q=increase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brown fat cell which is incre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organism, Q=increased (granular) parts, E2=brown fat cel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increased brown fat cells in upper bod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handles reaso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ould annotations to above be returned for queries of PATO term “fatty”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ATO has terms lik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ext is im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us/ord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to make ex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_comparison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than average for species/genus/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taxon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is same species as specified by 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phenotype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quires recording phenotype I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two experiments, same genotype, different environment, phenotype stronger in on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atio &amp; relative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 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 in an individual when compared to size brain relative to size of skull in a typical individual of that 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brain,Q=large,relative_to=skull, in_comparison_to=&lt;taxon_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s to: whole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one,Q=notched,Mod=mil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ndardised qualitative mod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ning dependent on E and Q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have multiple, cross-cutting sca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ative and numeric/score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4038480"/>
          <a:ext cx="7162920" cy="457200"/>
        </p:xfrm>
        <a:graphic>
          <a:graphicData uri="http://schemas.openxmlformats.org/drawingml/2006/table">
            <a:tbl>
              <a:tblPr/>
              <a:tblGrid>
                <a:gridCol w="959760"/>
                <a:gridCol w="2012400"/>
                <a:gridCol w="1532160"/>
                <a:gridCol w="1255320"/>
                <a:gridCol w="14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648320"/>
          <a:ext cx="7162920" cy="380880"/>
        </p:xfrm>
        <a:graphic>
          <a:graphicData uri="http://schemas.openxmlformats.org/drawingml/2006/table">
            <a:tbl>
              <a:tblPr/>
              <a:tblGrid>
                <a:gridCol w="960480"/>
                <a:gridCol w="739800"/>
                <a:gridCol w="663480"/>
                <a:gridCol w="592200"/>
                <a:gridCol w="1551240"/>
                <a:gridCol w="1257120"/>
                <a:gridCol w="1398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8862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3809520" y="58672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257800"/>
            <a:ext cx="3045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6593400" y="5826960"/>
            <a:ext cx="2998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257800"/>
            <a:ext cx="304920" cy="123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209680" y="5790960"/>
            <a:ext cx="228600" cy="76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modify meaning of Q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fluence of Mod on Q is subjective but the direction is objectiv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ample: E=adult_human_body, during=slee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={low,high} temperature, Mod=mild,normal,moderate,extre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33520" y="3200400"/>
          <a:ext cx="6933960" cy="914400"/>
        </p:xfrm>
        <a:graphic>
          <a:graphicData uri="http://schemas.openxmlformats.org/drawingml/2006/table">
            <a:tbl>
              <a:tblPr/>
              <a:tblGrid>
                <a:gridCol w="960480"/>
                <a:gridCol w="2011320"/>
                <a:gridCol w="1531800"/>
                <a:gridCol w="1255680"/>
                <a:gridCol w="1174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33520" y="4114800"/>
          <a:ext cx="6933960" cy="380880"/>
        </p:xfrm>
        <a:graphic>
          <a:graphicData uri="http://schemas.openxmlformats.org/drawingml/2006/table">
            <a:tbl>
              <a:tblPr/>
              <a:tblGrid>
                <a:gridCol w="960120"/>
                <a:gridCol w="739800"/>
                <a:gridCol w="663480"/>
                <a:gridCol w="592200"/>
                <a:gridCol w="1551240"/>
                <a:gridCol w="1257120"/>
                <a:gridCol w="117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87692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444800" y="48769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09480" y="54864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7444800" y="54100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61722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7444800" y="62164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28320" y="35654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4038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and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hould not be in a true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e can still give these PATO ID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pt separate from core PATO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can be relation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um may be implici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abnormal_with_respct_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erve similar purposes as Values in tripartite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c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sent, low, high are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reated in the same way as genuine quality types like ‘notched’, ‘large’, ‘diploid’, ‘pink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are ingredients in the representation language, and not types in an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458200" cy="6477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istency: the property of holding together and retaining sh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mplitude: The size of the maximum displacement from the 'normal' position, when periodic motion is taking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lacement: The spatial property of the way in which something is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inted value: A sharp or tapered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pinastic value: A downward bending of leaves or other plantnpa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blong value: Having a somewhat elongated form withnapproximately paralle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liptic value: Elliptic sha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arted value: Heart sha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asciated value: Abnormally flattened or coalesce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city: The property of not permitting the passage of electromagnetic radi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que value: Not clear; not transmitting or reflecting light or radiant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dulate value: Having a sinuate margin and rippled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rmeability: The property of something that can be pervaded by a liquid (as by osmosis or diffus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sity: The property of being porous; being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us value: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sity: a property of fluids describing their internal resistance to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us value: a relatively high resistance to fl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tency: The time that elapses between a stimulus and the respon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wer: The rate at which work is d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terozygous flies have very short and highly branched arista lateral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, EQuant=all, Q=short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 EQuant=all, Q=branched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asurement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the schema, representations of measurements are attached to the representations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parate measurement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on’t need to discuss fine grained detail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data providers will require more detail than other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verages, error bars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2c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+.1cm, in_comparison_to=&lt;individual-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 like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2 segment,Q=morphology,Similar_to=A3 seg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A2 segment with the morphological features of an A3 seg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not “heart-shaped leaves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dition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phenotypes are only realised under certain cond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luding chemical interactions, RNA interference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should separate conditionals (this phenotype only seen in this envirotype with this genotype) from data (on this occasion this phenotype seen in this envirotype with this genotyp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 el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characte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Qua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u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Relative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_comparison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milar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easur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or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st of these elements are op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providers pick and choose their level of expressiv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exten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olean combin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ditional statement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g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5" name=""/>
          <p:cNvSpPr/>
          <p:nvPr/>
        </p:nvSpPr>
        <p:spPr>
          <a:xfrm>
            <a:off x="3254760" y="3503880"/>
            <a:ext cx="126432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80060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819520" y="40381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86200" y="40381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038120" y="40381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71600" y="3962520"/>
            <a:ext cx="23623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267080" y="4038120"/>
            <a:ext cx="24386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: genus-differentia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</a:rPr>
              <a:t>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def should refine the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 (non-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"/>
              </a:rPr>
              <a:t>binucleate ce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ff6fcf"/>
                </a:solidFill>
                <a:uFillTx/>
                <a:latin typeface="Gill Sans"/>
              </a:rPr>
              <a:t>cel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ill Sans"/>
              </a:rPr>
              <a:t>has two nucle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 (proposed PATO de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vex shape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 shap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has no inden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acity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 optical qualit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exists by virtue of the bearer’s capacity to block the passage of electromagnetic radi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v similar to existing de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is policy will reap benefi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lps avoid circu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sures preci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sistency in wording user-friend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nsiderat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metimes leads to awkward phras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-ity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suffix - “an opacity which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ow shortened gerund for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ving…, being…., …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st of the existing defs conform alread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mplicit prefix “A G which exists by virtue of the bearer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cp:lastPrinted>2006-03-08T06:46:51Z</cp:lastPrinted>
  <dcterms:modified xsi:type="dcterms:W3CDTF">2006-05-18T13:13:33Z</dcterms:modified>
  <cp:revision>1269</cp:revision>
  <dc:subject/>
  <dc:title>NCBIO-Berkeley</dc:title>
</cp:coreProperties>
</file>